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CCE2-9527-40B5-8E84-AC1EACB7BE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A905-7BFB-4361-A818-E2459D6370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527-0347-46AC-A435-05C12B1C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29A-181C-440A-A4CF-4C35B6F8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FE2-16ED-496A-8F48-AD991002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538-62A8-46E4-968F-2A5F9BF0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2FF-4540-4E35-B566-C3361250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AA9-1263-43E0-A655-9071A9D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F8C-3F3A-4048-B2F9-6B68FAE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523-1C43-4D6E-802D-2A9094C0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134-52E4-49A6-BEFE-C932250C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A27-57C8-41EE-8543-1F1D9A2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269-AA25-4C9E-A80B-0760359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039-65CF-4E2C-B98D-348DA108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436-B1EF-4CFB-9AE5-D7419880CB2F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Stopping_food_waste,_one_picnic_at_a_time" TargetMode="External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133200" y="36360"/>
            <a:ext cx="953928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280" y="549360"/>
            <a:ext cx="82090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Read the article to check your answer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6b9f25"/>
                </a:solidFill>
                <a:uFillTx/>
                <a:latin typeface="Book Antiqua"/>
                <a:hlinkClick r:id="rId1"/>
              </a:rPr>
              <a:t>http://eewiki.newint.org/index.php/Stopping_food_waste,_one_picnic_at_a_tim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And find out about the movement: </a:t>
            </a:r>
            <a:r>
              <a:rPr b="1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39067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5-26T19:15:58Z</dcterms:modified>
  <cp:revision>12</cp:revision>
  <dc:subject/>
  <dc:title>How to stop food waste</dc:title>
</cp:coreProperties>
</file>